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17701"/>
        <c:axId val="74255405"/>
      </c:barChart>
      <c:catAx>
        <c:axId val="31617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5405"/>
        <c:crosses val="autoZero"/>
        <c:auto val="1"/>
        <c:lblAlgn val="ctr"/>
        <c:lblOffset val="100"/>
        <c:noMultiLvlLbl val="0"/>
      </c:catAx>
      <c:valAx>
        <c:axId val="74255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17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EA1-41A6-4BA2-A51F-3111C421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4CE-FA97-485B-B124-381679CA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2ED-9587-44DA-A620-D56A396C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D5F-E5DB-42F6-B1F2-B907F4E0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38D-F637-4317-AE0D-DC489E7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33E-14CF-49EB-8A82-91A8F6C2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217-7968-458F-B851-25C9ABD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BCE-AAD9-4141-937E-9426DC3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DB2-44AE-4475-8AB4-636D3CB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853-ECCE-4E7A-AA48-8816A19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4ED-6A30-4676-9419-8B0DBB1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1B9-6BA7-4342-95AE-292BD3E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8A6B6-4796-4C98-8865-8F659093B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