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580154"/>
        <c:axId val="47484422"/>
      </c:barChart>
      <c:catAx>
        <c:axId val="85580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84422"/>
        <c:crosses val="autoZero"/>
        <c:auto val="1"/>
        <c:lblAlgn val="ctr"/>
        <c:lblOffset val="100"/>
        <c:noMultiLvlLbl val="0"/>
      </c:catAx>
      <c:valAx>
        <c:axId val="47484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80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8FC-301F-4AC0-929B-D8A4A455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217-0DCF-46E4-92F3-E8687A8E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815-D198-45FF-87BD-BAD65B30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B0B8-BF30-44B0-852A-2FC3C90E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D46-8B30-450F-BCC4-0FBA2246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F84-5E59-4666-AA6F-9E333DFB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9E5-0EEA-46D7-A306-1D0A57A8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EC8E-258C-4ED2-AFF2-E9E8A980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159-117B-4FDB-9354-E5CD570D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30A-809C-425E-94E8-378B3790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E4D-1E25-406C-8500-CE070649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C7B-8E42-4944-B390-2FA081D4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BC576-9E48-40E9-9EB2-85FEF486ED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