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876253"/>
        <c:axId val="1782232"/>
      </c:barChart>
      <c:catAx>
        <c:axId val="97876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2232"/>
        <c:crosses val="autoZero"/>
        <c:auto val="1"/>
        <c:lblAlgn val="ctr"/>
        <c:lblOffset val="100"/>
        <c:noMultiLvlLbl val="0"/>
      </c:catAx>
      <c:valAx>
        <c:axId val="17822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76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AFF9-B375-42F1-A875-A0810F7D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8DDE-2757-4A5B-B6E7-4C372D03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8DB-31CF-4567-B41B-95566406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3B48-188A-4BC1-97F3-353C15CF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730B-F206-44B5-A509-0E9F4D23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9D0-8ED3-4340-96FF-CD0813FC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D1E-4EEF-449C-ADAC-B0774BA4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FC46-73F1-4393-B57D-ABA27BBA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FE9-F196-45D3-B15E-6AEAF09B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726-C06D-4158-95A5-5DBEF92B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7B7-8F8A-484C-A96F-C7B65761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39B-1713-4CCE-8882-4191D2F7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61EAF-B303-444C-B53A-94292E03A4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