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30019"/>
        <c:axId val="18966596"/>
      </c:barChart>
      <c:catAx>
        <c:axId val="18630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66596"/>
        <c:crosses val="autoZero"/>
        <c:auto val="1"/>
        <c:lblAlgn val="ctr"/>
        <c:lblOffset val="100"/>
        <c:noMultiLvlLbl val="0"/>
      </c:catAx>
      <c:valAx>
        <c:axId val="18966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30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9E1-512E-4361-B24A-73A2780A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AF7-3375-43AB-B2E4-5443AE1D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3FD-CD89-41BF-9C3B-8BC07BE5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DB9-8C35-4208-A066-C5FA3221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57C-1AF8-4AC4-9545-27FE95E2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911-D550-4651-B165-9344B38F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CB3-0EF7-4470-B4CD-E1B06B9B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4A7-B8FF-4173-8643-1F90E676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826-FF6E-458D-94FB-2670EB5A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635-94BD-41D9-8746-26D6CDEE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2B1-868A-4528-9D51-3B14190B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35C-D590-4F26-BB55-693B3252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59EA6-34E0-458A-8B91-7FA60F63E8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