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072001"/>
        <c:axId val="83208862"/>
      </c:barChart>
      <c:catAx>
        <c:axId val="720720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208862"/>
        <c:crosses val="autoZero"/>
        <c:auto val="1"/>
        <c:lblAlgn val="ctr"/>
        <c:lblOffset val="100"/>
        <c:noMultiLvlLbl val="0"/>
      </c:catAx>
      <c:valAx>
        <c:axId val="832088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0720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CE0D-57DD-47D0-A548-D61B672F6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896C-5ABC-427A-A094-86CD5CBA1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8784-770C-4F5B-A312-7DD15FC27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BFD2-9C7E-49C0-ABA2-0B4513DE0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8693-BCF1-476A-9C1D-0B242BDD9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2146-E517-48FB-AD69-80C6A8542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2581-78E2-4A2D-88C0-97CD4C4E9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DCF6-43FD-45C3-9493-0AB313101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2810-DD6A-47FA-8480-35C6B8357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9CE3-9146-4694-BAC6-B2D8DDD48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C2E5-A9EF-4FBB-9487-7881EF7E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AD6D-2EE8-4D7B-92E5-8C6EB626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DBEDFF-68A1-49C0-8CF9-8C2BADADA7B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