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8943"/>
        <c:axId val="90652774"/>
      </c:barChart>
      <c:catAx>
        <c:axId val="465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52774"/>
        <c:crosses val="autoZero"/>
        <c:auto val="1"/>
        <c:lblAlgn val="ctr"/>
        <c:lblOffset val="100"/>
        <c:noMultiLvlLbl val="0"/>
      </c:catAx>
      <c:valAx>
        <c:axId val="90652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EDB-CEF1-4E46-9EFB-07E96CB0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210-805A-4074-83D7-5B52DDF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00C-9052-46FE-B0D0-EA3F8D6D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896-1E69-4FFE-ABB3-4D342971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CD9-58A3-4A73-BDE4-2F18715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954-3B7C-4621-BBF1-6E5366C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A01-8B31-4772-A4D9-07C290F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805-EA45-4DD6-95FA-AC684F3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79A-C7D7-4676-A98C-22CFFE03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74A-1B2F-44EC-AE20-D51DDEDF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7BF-000A-42BD-8476-0AE87DA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562-28D3-4F8D-AB00-8C14B48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66E2C-4847-41F6-9E49-06A80D145D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