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45877"/>
        <c:axId val="36748817"/>
      </c:barChart>
      <c:catAx>
        <c:axId val="52945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8817"/>
        <c:crosses val="autoZero"/>
        <c:auto val="1"/>
        <c:lblAlgn val="ctr"/>
        <c:lblOffset val="100"/>
        <c:noMultiLvlLbl val="0"/>
      </c:catAx>
      <c:valAx>
        <c:axId val="36748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5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149-B73C-4C5F-9989-0CB8031B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CBF-169B-47BE-A59A-EEB52CDC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C6B-9FFB-4E81-BDC0-4F732D48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DDC-F25E-4490-BC6A-4FCD133E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C18-206E-4EE0-93A5-3632CB2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D2B-0A6A-4546-B11B-FAE1B11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046-AC85-4947-8472-BC05D9EF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809-20A8-4581-9F8E-57D3D85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5EC-BB8E-44A7-82FC-D85F98DF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FD4-7273-4F8A-A85B-402283E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3DC-AFD1-4E70-B5AA-910A28E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6B6-ADB2-4A4A-9E05-33C3802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C5DDE-F6CB-432E-BCEC-91A900670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